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BA1-2CF2-4A00-91DF-51489542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DAF-D44C-4754-9001-F1D2CF7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F09-649A-4F30-BE2A-C3DA21CD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58F-4397-4A8A-ABE5-CC1C8BC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C957-C772-44AC-BCE6-E5FE3B8B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920-D397-454F-BBD2-C7988EA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2903-7782-4FD6-BF11-B33C8212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2746-EF0A-4BD7-9E68-DDBB761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FF96-AFE7-4DC7-B1EC-CA799A62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7074-16B9-4A24-AAA5-FDEDAD27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CBF8-8E2B-4335-91DB-F4ED4EA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B89-2487-4456-8AE9-CDB4753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738-FF1F-4E15-B601-18A2569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5AF1-DFE8-45F3-8741-A93AB8C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9D60-5492-43C8-8746-82722E1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F09-ABCE-4E82-AAC9-7C98D3C4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985-D46F-42DA-A4C1-757D795F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F81-9FEA-48D9-ABCA-377B093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F60-85ED-4B52-8572-9760CA19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F15-5552-4573-A668-55D7663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106-8B9E-42DE-A1DD-C235E13D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20D-58DE-404C-810D-2D9978E3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883-2193-42E2-BA15-6CCD9C7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E9B-FC0E-4127-AB87-0692012D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8D2E-DB01-4E27-9921-29F721DA58C7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Click to edit the title text format</a:t>
            </a: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E07-FB5E-4DD3-AAC5-6487AAC4E3AA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Chalkboar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sdsu.edu/adapting/index.html" TargetMode="External"/><Relationship Id="rId3" Type="http://schemas.openxmlformats.org/officeDocument/2006/relationships/hyperlink" Target="http://webquest.sdsu.edu/adapting/index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n.pacbell.com/wired/fil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clasciproject.com/Chem2006/WEBQUEST%20TEMPLATE.doc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lideshare.net/JimFolk/web-quest-template-pdf-format/" TargetMode="External"/><Relationship Id="rId3" Type="http://schemas.openxmlformats.org/officeDocument/2006/relationships/hyperlink" Target="http://eduscapes.com/sessions/travel/create.htm" TargetMode="External"/><Relationship Id="rId4" Type="http://schemas.openxmlformats.org/officeDocument/2006/relationships/hyperlink" Target="http://www.ebecri.org/media/gr%20-%20title%20by%20name.zip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quest.org/index.ph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eachersfirst.com/summer/webquest/quest-b.shtml" TargetMode="External"/><Relationship Id="rId5" Type="http://schemas.openxmlformats.org/officeDocument/2006/relationships/hyperlink" Target="http://www.teachersfirst.com/summer/webquest/quest-b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icrosoft.com/education/designwebquest.mspx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thirteen.org/edonline/concept2class/webquests/index.html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tcnj.edu/~caties/documents/WebQuests.pdf" TargetMode="External"/><Relationship Id="rId12" Type="http://schemas.openxmlformats.org/officeDocument/2006/relationships/hyperlink" Target="http://www.tcnj.edu/~caties/documents/WebQuests.pdf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surfaquarium.com/presentations/webquest.pdf" TargetMode="External"/><Relationship Id="rId15" Type="http://schemas.openxmlformats.org/officeDocument/2006/relationships/hyperlink" Target="http://surfaquarium.com/presentations/webquest.pdf" TargetMode="External"/><Relationship Id="rId1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cationworld.com/a_issues/chat/chat015.shtml" TargetMode="External"/><Relationship Id="rId3" Type="http://schemas.openxmlformats.org/officeDocument/2006/relationships/hyperlink" Target="http://www.educationworld.com/a_issues/chat/chat015.shtml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ducationworld.com/a_tech/tech/tech011.s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bestwebquests.com/what_webquests_are.asp" TargetMode="External"/><Relationship Id="rId8" Type="http://schemas.openxmlformats.org/officeDocument/2006/relationships/hyperlink" Target="http://bestwebquests.com/what_webquests_are.asp" TargetMode="External"/><Relationship Id="rId9" Type="http://schemas.openxmlformats.org/officeDocument/2006/relationships/hyperlink" Target="http://bestwebquests.com/what_webquests_are.asp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bestwebquests.com/tips/red_flags.asp" TargetMode="External"/><Relationship Id="rId12" Type="http://schemas.openxmlformats.org/officeDocument/2006/relationships/hyperlink" Target="http://bestwebquests.com/tips/red_flags.asp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www.webquestdirect.com.au/whatis_articles2.asp" TargetMode="External"/><Relationship Id="rId15" Type="http://schemas.openxmlformats.org/officeDocument/2006/relationships/hyperlink" Target="http://www.webquestdirect.com.au/whatis_articles2.asp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webquest.sdsu.edu/roadmap/index.htm" TargetMode="External"/><Relationship Id="rId18" Type="http://schemas.openxmlformats.org/officeDocument/2006/relationships/hyperlink" Target="http://webquest.sdsu.edu/roadmap/index.ht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projects.edtech.sandi.net/staffdev/tpss99/tasksimap/" TargetMode="External"/><Relationship Id="rId21" Type="http://schemas.openxmlformats.org/officeDocument/2006/relationships/hyperlink" Target="http://projects.edtech.sandi.net/staffdev/tpss99/tasksimap/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www.emsb.qc.ca/recit/workshops/wq/sld001.htm" TargetMode="External"/><Relationship Id="rId24" Type="http://schemas.openxmlformats.org/officeDocument/2006/relationships/hyperlink" Target="http://www.emsb.qc.ca/recit/workshops/wq/sld001.htm" TargetMode="External"/><Relationship Id="rId2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cdsb.on.ca/d&amp;g/DP/main.htm" TargetMode="External"/><Relationship Id="rId3" Type="http://schemas.openxmlformats.org/officeDocument/2006/relationships/hyperlink" Target="http://www.gecdsb.on.ca/d&amp;g/DP/main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annettelamb.com/tap/topic4.htm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rubistar.4teachers.org/index.php" TargetMode="External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wba.k12.nc.us/techtrac/plus/muckinhoupt/" TargetMode="External"/><Relationship Id="rId2" Type="http://schemas.openxmlformats.org/officeDocument/2006/relationships/hyperlink" Target="http://harmony2.millersville.edu/webquest/summer2004/ahoward/PeriodicTable/Intro.html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" Target="slide12.xml"/><Relationship Id="rId7" Type="http://schemas.openxmlformats.org/officeDocument/2006/relationships/image" Target="../media/image2.png"/><Relationship Id="rId8" Type="http://schemas.openxmlformats.org/officeDocument/2006/relationships/slide" Target="slide13.xml"/><Relationship Id="rId9" Type="http://schemas.openxmlformats.org/officeDocument/2006/relationships/image" Target="../media/image2.png"/><Relationship Id="rId10" Type="http://schemas.openxmlformats.org/officeDocument/2006/relationships/slide" Target="slide14.xml"/><Relationship Id="rId11" Type="http://schemas.openxmlformats.org/officeDocument/2006/relationships/image" Target="../media/image2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Chalkboard Bold"/>
              </a:rPr>
              <a:t>Webquests in Science</a:t>
            </a:r>
            <a:br>
              <a:rPr sz="6600"/>
            </a:br>
            <a:endParaRPr b="0" lang="en-US" sz="6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5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"/>
              </a:rPr>
              <a:t>Teaching With Technology</a:t>
            </a:r>
            <a:endParaRPr b="0" lang="en-US" sz="4400" spc="-1" strike="noStrike">
              <a:solidFill>
                <a:srgbClr val="003300"/>
              </a:solidFill>
              <a:latin typeface="Chalkboar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esenter: Andrea Dorm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apture their attention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 preview the assig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ually contain background info and motivational scenarios (ex. You are an astronaut planning a trip to the moon.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as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Describe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urpos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the activity and the end produc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oces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xplain the step-by-step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rategi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students will use to complete the task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Provid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link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to pre-approved websites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an b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enhanc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with videos, posters, maps, models, manipulatives, and mor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Evaluat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ws the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ubric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nd/or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criteria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by which the project will be graded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Measures the results of the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andards should be fair, clean, consistent, and specific to the tasks se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ums up the activit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Encourages students to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reflect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on the project and their result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acher Pag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optional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page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t can include state and/or national standards for the lesson as well as suggestions on how to make the WebQuest more effective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5715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So…Where Do You Star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irst question you need to ask yourself is…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hould I make a WebQuest or use  one I found on the Internet?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“</a:t>
            </a: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Don’t reinvent the wheel”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find a lot of already made WebQuests online with a little research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I have listed a few science examples on my CFF wikispace and have placed some helpful links at the end of this PowerPoin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Adapt an Existing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ometimes you can find a WebQuest that needs only minor adaptations.  Use the following website for ideas on how to modify it to best meet your needs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Adapting A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Your Own WebQues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Use a free online resource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Filamentalit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allows you to fill in the blanks and creates a WebQuest for you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teAchnolog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halkboard"/>
              </a:rPr>
              <a:t>This website is also a WebQuest generator.</a:t>
            </a:r>
            <a:endParaRPr b="0" lang="en-US" sz="24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s a WebQuest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ebQuest is an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inquiry-orient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lesson format in which some or all of the information that students interact with comes from sources on the Interne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is model was developed by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Bernie Dodge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at San Diego State University    in 1995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Word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reate a word document outlining all the 6 steps.  Include the websites on this docu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following template could be helpful: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Word Templat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Create a WebQuest in PowerPoin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to Hyperlink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lick on text or an object you would like to hyperlink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AutoShape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Go to “Insert” and then “Hyperlink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 flipH="1">
            <a:off x="304920" y="63244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505320" y="4191120"/>
            <a:ext cx="176508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Template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r you can use one of the following templates as a starting point to your PowerPoint WebQuest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Template On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Template Two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halkboard"/>
              </a:rPr>
              <a:t>(Look for PowerQuest Template)</a:t>
            </a: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Template Thre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Resources Used in This Presentation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Bernie Dodge’s Website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/>
              </a:rPr>
              <a:t>Webquest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101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How to Design A WebQues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Concept to Classroom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Webquests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: Teach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4"/>
              </a:rPr>
              <a:t>Webquests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: Growing with Technology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halkboard Bold"/>
              </a:rPr>
              <a:t>Interesting WebQuest Articles</a:t>
            </a:r>
            <a:endParaRPr b="0" lang="en-US" sz="36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Interview with Bernie Dodge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(Creator of WebQuests  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It’s Easier Than You Think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Linda Sarr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Wha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8"/>
              </a:rPr>
              <a:t>WebQuests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9"/>
              </a:rPr>
              <a:t>Are (Really)</a:t>
            </a:r>
            <a:r>
              <a:rPr b="0" lang="en-US" sz="900" spc="-1" strike="noStrike">
                <a:solidFill>
                  <a:srgbClr val="003300"/>
                </a:solidFill>
                <a:latin typeface="Chalkboard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1"/>
              </a:rPr>
              <a:t>7 Red Flags when Sifting Through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2"/>
              </a:rPr>
              <a:t>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By Tom March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4"/>
              </a:rPr>
              <a:t>WebQues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5"/>
              </a:rPr>
              <a:t>Direct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A List of Many WebQuest Articles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7"/>
              </a:rPr>
              <a:t>A Road Map For Designing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18"/>
              </a:rPr>
              <a:t>WebQuests</a:t>
            </a:r>
            <a:r>
              <a:rPr b="0" lang="en-US" sz="1800" spc="-1" strike="noStrike">
                <a:solidFill>
                  <a:srgbClr val="003300"/>
                </a:solidFill>
                <a:latin typeface="Chalkboard"/>
              </a:rPr>
              <a:t>   PowerPoint by Bernie Dodge</a:t>
            </a:r>
            <a:endParaRPr b="0" lang="en-US" sz="1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0"/>
              </a:rPr>
              <a:t>WebQuest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1"/>
              </a:rPr>
              <a:t>Taskonomy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3"/>
              </a:rPr>
              <a:t>21st Century Skills in </a:t>
            </a:r>
            <a:r>
              <a:rPr b="0" lang="en-US" sz="2800" spc="-1" strike="noStrike" u="sng">
                <a:solidFill>
                  <a:srgbClr val="70aabf"/>
                </a:solidFill>
                <a:uFillTx/>
                <a:latin typeface="Chalkboard"/>
                <a:hlinkClick r:id="rId24"/>
              </a:rPr>
              <a:t>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Pre-Made WebQuests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/>
              </a:rPr>
              <a:t>WebQuest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3"/>
              </a:rPr>
              <a:t>Locat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Find Pre-Mad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5"/>
              </a:rPr>
              <a:t>Teacher Tap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halkboard"/>
              </a:rPr>
              <a:t>Locate and Evaulate WebQuests</a:t>
            </a:r>
            <a:endParaRPr b="0" lang="en-US" sz="28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7"/>
              </a:rPr>
              <a:t>Rubistar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Rubric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/>
          </p:cNvPr>
          <p:cNvSpPr/>
          <p:nvPr/>
        </p:nvSpPr>
        <p:spPr>
          <a:xfrm>
            <a:off x="1373760" y="190512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b004"/>
                </a:solidFill>
                <a:latin typeface="Arial"/>
              </a:rPr>
              <a:t>Let’s Look At An Example!!!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>
            <a:hlinkClick r:id="rId2"/>
          </p:cNvPr>
          <p:cNvSpPr/>
          <p:nvPr/>
        </p:nvSpPr>
        <p:spPr>
          <a:xfrm>
            <a:off x="2669400" y="36576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00"/>
                </a:solidFill>
                <a:latin typeface="Arial"/>
              </a:rPr>
              <a:t>Here is Another One!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8880" y="419112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Group Projec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Web-based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Open-Ended Questions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igher-Level Think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Student Centered (Teacher Facilitated)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llaborativ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21st Century Learning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It Is NOT…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“Scavenger Hunt”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Report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Question with a Predefined Answer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A Way to Teach Factual Inform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What are the benefits of WebQuests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he amount of information available will grow at an accelerating pace; much of it will come directly from a growing number of sources without filtering or verification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Tomorrow’s workers will need to be able to work in teams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Help to create a lifelong process of learning, honoring multiple perspectives and evaluating information before acting on it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Combines a list of sequential steps and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pre-selected website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This allows for a controlled research environment.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How does this benefit you?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r classroom becomes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tudent centered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facilitate learning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 instead of lecturing or directing.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You can watch all students succeed since this type of teaching </a:t>
            </a:r>
            <a:r>
              <a:rPr b="0" lang="en-US" sz="3200" spc="-1" strike="noStrike">
                <a:solidFill>
                  <a:srgbClr val="53b004"/>
                </a:solidFill>
                <a:latin typeface="Chalkboard"/>
              </a:rPr>
              <a:t>supports all learners</a:t>
            </a: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.   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halkboard Bold"/>
              </a:rPr>
              <a:t>Basic Layout</a:t>
            </a:r>
            <a:endParaRPr b="0" lang="en-US" sz="4400" spc="-1" strike="noStrike">
              <a:solidFill>
                <a:srgbClr val="003300"/>
              </a:solidFill>
              <a:latin typeface="Chalkboard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2" action="ppaction://hlinksldjump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4" action="ppaction://hlinksldjump"/>
              </a:rPr>
              <a:t>Task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6" action="ppaction://hlinksldjump"/>
              </a:rPr>
              <a:t>Process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8" action="ppaction://hlinksldjump"/>
              </a:rPr>
              <a:t>Evaluat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0" action="ppaction://hlinksldjump"/>
              </a:rPr>
              <a:t>Conclusion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halkboard"/>
              </a:rPr>
              <a:t>(optional) </a:t>
            </a:r>
            <a:r>
              <a:rPr b="0" lang="en-US" sz="3200" spc="-1" strike="noStrike" u="sng">
                <a:solidFill>
                  <a:srgbClr val="70aabf"/>
                </a:solidFill>
                <a:uFillTx/>
                <a:latin typeface="Chalkboard"/>
                <a:hlinkClick r:id="rId12" action="ppaction://hlinksldjump"/>
              </a:rPr>
              <a:t>Teacher Page</a:t>
            </a:r>
            <a:endParaRPr b="0" lang="en-US" sz="3200" spc="-1" strike="noStrike">
              <a:solidFill>
                <a:srgbClr val="003300"/>
              </a:solidFill>
              <a:latin typeface="Chalkboar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8:11:24Z</dcterms:created>
  <dc:creator>Andrea Dormer</dc:creator>
  <dc:description/>
  <dc:language>en-US</dc:language>
  <cp:lastModifiedBy>Andrea Dormer</cp:lastModifiedBy>
  <dcterms:modified xsi:type="dcterms:W3CDTF">2008-03-03T15:07:55Z</dcterms:modified>
  <cp:revision>24</cp:revision>
  <dc:subject/>
  <dc:title>Webquests in Science </dc:title>
</cp:coreProperties>
</file>